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EB9-4E59-4EF5-88C8-29F37654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3D4-E8A9-40C0-9DA3-5BFB28E2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E55-2B2C-4D1C-8126-AE6666B1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238-E0DA-4748-90B1-929129F2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E15-CB39-41E0-8E28-D9E5FE12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DCE-1C48-43D2-906F-DA2206ED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E57-08C4-4A79-B534-26804CA2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F7D-5E20-4783-A8C5-C3F06707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A43-D740-4572-9F23-9F7550F6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157-A0F1-4B7F-83BA-2DA8C27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6AB-FEBA-471C-B37E-8752D745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C80-93B5-48F8-AAAA-6AC301D5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B668-E72E-4607-B851-45D7C99653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748720" y="501336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19 – Momen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62120" y="1366920"/>
            <a:ext cx="79246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owerPoint file contains the Plenary for this chapter in </a:t>
            </a:r>
            <a:br>
              <a:rPr sz="1800"/>
            </a:b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Physics Fo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werPoint of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well they have understood each section of work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o view a PowerPoint in ‘Full Screen’ mode, press Function key &lt;F5&gt;, 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(or right-click your mouse and select ‘Full Screen’).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Press &lt;Escape&gt; to go to Edit m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9 : Momen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990720"/>
            <a:ext cx="7272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mentum  =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quantit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s unit i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mentum i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a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’s Second Law,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can be written a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   So if we can increas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t’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a collision, the force can b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the idea from question 2 to explain why ropes used in rock climbing are made deliberately ‘stretchy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990720"/>
            <a:ext cx="7272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mentum  =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quantit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s unit i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mentum i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a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ton’s Second Law,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can be written a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   So if we can increas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‘t’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a collision, the force can b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the idea from question 2 to explain why ropes used in rock climbing are made deliberately ‘stretchy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367080" y="1044720"/>
            <a:ext cx="12952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952880" y="1038240"/>
            <a:ext cx="16002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154240" y="1415880"/>
            <a:ext cx="1440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681280" y="1771560"/>
            <a:ext cx="1440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kg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324240" y="2124000"/>
            <a:ext cx="19429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665440" y="3241800"/>
            <a:ext cx="3938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695760" y="3241800"/>
            <a:ext cx="41904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238400" y="54100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f a climber falls, a stretchy rope will stop her with much less force, because she is decelerated over a long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700600" y="3586320"/>
            <a:ext cx="15145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9 : Moment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30:23Z</dcterms:modified>
  <cp:revision>39</cp:revision>
  <dc:subject>Physics for You Support File</dc:subject>
  <dc:title>Physics for You</dc:title>
</cp:coreProperties>
</file>