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4B9-BE1D-4D2A-B282-07EFB726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3FA-8721-4A13-93C2-E23A295E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66F-ACF1-4568-8C2C-736C87D0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F45-7DAB-4BDC-97C9-91F900DA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3C9-90DB-4578-A02E-90AAD43E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064-09F7-4AC8-8018-1366CA18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AD2-16CB-4574-9AAE-0D3A8F7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898-B8C9-424F-999A-0787BDB6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D7E-7058-4E93-8CC4-C7BB92C5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BBA-ADA5-4B12-ABFA-726337D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9D8-6C35-46E9-B2F0-B8447E38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A07-3B48-43E7-BC60-1BE35CD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9F9F-AE16-48A8-AE54-3930B4F05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748720" y="501336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3"/>
          <p:cNvSpPr/>
          <p:nvPr/>
        </p:nvSpPr>
        <p:spPr>
          <a:xfrm>
            <a:off x="762120" y="380880"/>
            <a:ext cx="670536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9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762120" y="1600200"/>
            <a:ext cx="77724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calculate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ink between momentum and Newton’s Second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momentum is conserved in all collisions but kinetic energy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e reduce the forces in collisions by extending the impac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29:46Z</dcterms:modified>
  <cp:revision>9</cp:revision>
  <dc:subject>Physics for You Support File</dc:subject>
  <dc:title>Physics for You</dc:title>
</cp:coreProperties>
</file>